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F477-0821-459E-9DD1-7EB2AF102C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8490-1151-4FF8-AA1A-49C12CE65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AEA-FD1E-4274-BC0D-4E8A5EE2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3CC-E78F-4230-A321-7DDA91AA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153-B183-4C49-8CBC-89F95CE4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F94-E5D6-4CAA-9DFC-CC63A741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605-1B9D-41D8-A5B7-3060D2EC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5B1-8AC2-4331-9860-6E0799F8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242-B7A8-4F1E-A38C-83151D8F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FAB-8E3B-4A49-ADC0-D5750AC2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2E9-2E57-4F75-8E1A-7C86BA15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441-55DC-424A-8010-7591AB0D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6A2-3CC9-4A60-B928-95CAE52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315-23B4-4E41-965B-4F8FE53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036-474B-4578-AEBB-0DF6A344D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51F5-10AC-4AE2-A71E-D11C1213C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87280" y="1555920"/>
          <a:ext cx="8829720" cy="530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555920"/>
                    <a:ext cx="8829720" cy="53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Прямоугольник 3"/>
          <p:cNvSpPr/>
          <p:nvPr/>
        </p:nvSpPr>
        <p:spPr>
          <a:xfrm>
            <a:off x="647640" y="6224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ение верхнего предела муниципального долга на 1 декабря 202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apphireHiddenControl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1DFD-787B-4494-9F7F-6FCF67807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20560" y="501480"/>
            <a:ext cx="78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уктура муниципального долга на 1 декабря2021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312840" y="914400"/>
          <a:ext cx="8778600" cy="628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914400"/>
                    <a:ext cx="877860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5:42:13Z</dcterms:created>
  <dc:creator>User</dc:creator>
  <dc:description/>
  <dc:language>en-US</dc:language>
  <cp:lastModifiedBy>Наговицына</cp:lastModifiedBy>
  <cp:lastPrinted>2020-01-10T05:43:34Z</cp:lastPrinted>
  <dcterms:modified xsi:type="dcterms:W3CDTF">2021-12-01T05:26:50Z</dcterms:modified>
  <cp:revision>133</cp:revision>
  <dc:subject/>
  <dc:title>Презентация PowerPoint</dc:title>
</cp:coreProperties>
</file>